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DB0-3D7A-459C-9196-44430211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141-F39C-4018-8681-591B36DB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72934-8634-42EB-8D6E-48D4E0B2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7AD67-2073-477A-BBEE-5564962A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2B4E0-63E3-47EF-A49D-77C902F8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4A269-D0BC-497A-A2B0-D157ED04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2741D-95E9-4CDD-8878-5E629266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606AE-B259-4497-A83E-11324779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9F86E-0279-4A88-9F13-3A92319A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75CC6-664A-420D-ACE1-4167FDFB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21AD4-7E28-44F5-9382-CDAC0D45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34F5E-A673-4B03-8A3E-AA38680A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753-E182-4C8D-8BEC-84014323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7B157-D51C-4301-A143-08CDFC33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1BF2A-96FA-4BB4-B357-878F7BF6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E9E76-0A62-4C13-920C-20674AA4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7EA19-2324-4CB2-90CE-B6CD613B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21B29-290D-4E9C-82BA-F21F8CEE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5BB18-807C-435D-8716-1153EAA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0641C-0D0D-4B71-A11E-C9B33EFD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AD3AF-A4E5-4A03-B491-5428F2D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8DD6D-0E24-4C03-8679-503B5DE9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5F400-7CCA-49D7-8CAE-997BB0B9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121-8271-43B0-A0B9-DB42560E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23DB4-8D04-4B97-B60D-5EFC0E4B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4280F-9F2D-4048-873D-C8A28236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AA700-3E2F-406F-BBCB-CD1AB24F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6404D-0DAB-4B95-858C-8192A45C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7F4AF-625E-4167-A3AA-2EC683EE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169E2-926B-4C07-BDD1-DC43D4C4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E7C0C-623C-4962-BEC4-5372B402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F9BC7-464A-4C74-B339-4A2B9B52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6A949-6BC8-4F5F-B681-256AA1B8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9B02D-47DA-4BAD-B23A-2BCBF710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F3C5-10C2-45A5-8293-E05819EE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817E-F425-4C1B-AB75-31DB4A4C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CBF77-5C07-4D52-B22C-1CE1A8D8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B88A2-BA56-4347-8DF3-47AEC101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B268A-1BAD-402F-A79E-EB2177D5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76382-A96D-4BE1-BE66-2F68B674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14D65-BEC1-4218-90C9-166ED801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FCDBF-3B27-474E-AE5F-1F909A5B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467F9-B8FF-4626-8D4D-CB173091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BB517-2AC9-4A41-A97E-4AEF3ADA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4AF73-73C7-4497-8315-7EBE5EA0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A99A-DCA9-45F9-BC96-5C86ADCA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D322E-D5C8-4020-83FF-C70EB1B6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29033-E336-49E9-9C0A-1BF1EEF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8A827-DDBE-4419-A887-C46A7AAD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7FB8B-EB42-4B59-9A76-F58797FC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BEE5B-5EBB-4910-9D44-694A16FA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7355F-4C23-465A-B5E3-230354ED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3DAEE-DB8B-4269-A4D7-77507EC1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EF5D6-72E9-4936-8183-A9873589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CCBC5-5716-4339-AE11-7861582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E95A1-C999-4E75-9EDE-6D9652B6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1208-FDC2-4D4B-BE82-D713AA65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11291-D564-4F36-9895-AF8FE36B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2600B-C4AF-488F-A507-6EFFF32F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87145-ED6E-4BB7-896F-4DF5532B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38421-E963-4061-B5AC-CC1C2ED8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E1B7F-0B79-4DAA-A659-0324DDF3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4CFE6-21A5-4CCC-B733-D2DFC876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24FB2-64BE-46BC-AB2E-8AFC47C3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C238-66A1-4764-B9E4-99933784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162A-04C5-4A46-8B96-0ED93FE6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187C-4BEF-4368-9F16-9FAEF122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532D-D58C-44C7-9854-81252B32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BE2-3B89-457E-B672-40CC4AE5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C6FC-7165-49A2-809C-4A56C5B4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4FF7-E78E-4A1B-8E78-4AA4C786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475C-B9CE-4B6E-97E5-E0470D8F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F991-60D8-4C99-AEA4-0024FE0C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A8EF-4757-4E50-95A3-384FF7F8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37D0-E953-4DA4-B6FF-CF605539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DDFD-5278-4855-8CBD-F46BAE00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24EB-78E0-4894-9609-0E208A93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E03E-B1EC-4D81-925E-BB4E9CD5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2D1D1-BC4D-41A5-821C-FC1B8332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3F5-60A5-4207-B8E0-ED473B9C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6B78-F33E-4D98-BF5E-8A22685F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42E6-6AC1-4F3A-A1F1-DF8C12E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1F7F-7A9B-4E37-8B3F-54C682C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F3E5-B0D9-46E6-B3BF-D9CB2B5F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22E3-D6E4-41AE-A6F1-AE53FD83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DF5F-51DC-40E3-8BEF-841C6D34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94271-88B5-4924-99C1-868E95E0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AC0D-182B-4203-8FB8-E13B6F7F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36EC-71B2-4826-B86B-D6343453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BD9C7-F3F1-4739-BF04-E444FD85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CB3-3538-4F18-B7A7-EBF0370C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7910E-D9F1-441C-B124-3AE23E97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895C-6E9E-40F1-844A-4181736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0AFE-1314-4228-A7F2-AE038440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D7A3-5B42-42DF-B33C-0352C1B2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319E7-9C19-4FF1-8FA1-F2814DCB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82CCE-EAB6-4343-BAB6-50F360A9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A630-ADDB-4529-8A05-2FEF390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B2E7-381A-4F14-997E-F120A1C1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7F9B-2940-4B5F-BB36-FD0263A3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37DB2-19FE-45B9-9BF6-7ABADC8D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A07-3502-423D-AD3A-9590E0E1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72595-E3FC-4391-8296-75236E63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E4E88-E83D-4887-83BB-21DC8D7C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D4EE4-8E15-450F-A20A-E4D3C146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E574-F62B-4CB2-BD3D-4918BE94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ED5EC-9956-474E-99CD-27E87B9B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048D-1A2E-4D0B-B197-D5DA5589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880AF-08BC-42BB-8A9A-E16F90D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BA9A2-470F-4866-8A27-140FB333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6A0B2-9AD9-482D-97A8-54956381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66A0B-D1A7-4EA8-AD51-19376564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B24-92B4-41AF-8D4D-32DBE2AC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CA2D6-3C3A-4C53-BDB4-290F0A2B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6DB1E-358E-4E56-9A9B-983184ED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A5A18-0F48-4166-AEB4-839D593E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D3658-FBE4-4C29-8570-E98FE952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29FB8-67D6-4EBB-9629-9D57158F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3B349-7631-49BE-8D0D-BC6E339F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78DAD-F4A6-40FD-8760-CF1F741F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E5A54-C74A-4781-8FEC-C351B6C7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0BC99-3567-4521-8676-7969D3B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E4822-2379-4B67-9BE4-3DAD0BB0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04F-320E-47FA-9777-DCB6B09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7975D-D6D0-4745-B823-E811B393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C9312-DE4B-4D8A-9A72-3BE4CAB3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EB947-3AA7-487B-80BF-E00BCD7D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71BDF-6D46-4097-9CFE-1149C30B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78E77-4403-4C49-BAC4-412A47F0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83FDD-3E95-4407-BAE4-F9B04AF4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B9527-3E97-4255-820F-D69B769F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AB431-574A-4585-9C28-B5119F7D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5813-82E5-4ED4-B106-3EC72163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2ABF-805E-48AB-8322-F893D922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B33-B175-4B8D-A51D-82DD534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EF92-8D33-4A38-A6C8-84A3480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52645-48F9-4B07-89E1-58923E3E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EC710-6E6F-4CFB-AD06-FBEB36AF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4EE45-BFCF-497E-A6B7-BF50ED76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55C29-E917-4AE3-ACB7-C77EECFA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D8162-5DA6-44AA-9A9D-A1AEA8B1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0FC81-7C54-42FA-9E1F-7F447750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37742-308E-444B-829D-F781AD2A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C9F03-8BC6-41F2-9BDB-6FE80F76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A6D6-6977-4869-8715-7CF58A55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FE6-C788-45B9-B298-9C35DD61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2AEA5-61F8-43C6-BEEE-73626B94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D542B-F72E-47C5-B767-6A83C56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660A1-228E-465A-8BFC-CBAEF714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ACD1A-20E5-4874-A5BA-CC5ABA99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266CA-77A1-4DE0-BF2A-1D79A999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0453D-0171-460A-849D-05892817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779B5-4D46-47F8-8658-20E1AEF0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7B3A0-2572-4015-9650-C4A380A3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92A5B-CD83-4D21-818E-61969999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ADEC1-59DD-4E0B-8241-F90FB49D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2FA2-39D0-4D86-BE1D-4D0CBFDF6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22AA-5352-4821-8AD5-BAC2EDC9BE7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76F2-ACC1-48AC-A95C-27B05BBA77D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EB40-65BE-4533-AA17-ED59CB6BE37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1BC9-B9F9-4203-B1B4-FCFEC65F4BE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E7B0-5C1C-4239-83DF-C61EA49EE1A7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D008-A826-4023-9CCE-DE8C96CF5F8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B82C-8480-4ED3-98E8-2AD26962680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6579-852F-4D0F-9F3C-0F9E68971DC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170B-4410-4CF2-AEFB-2DF385EB1AF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1ED8-78E7-4CBE-9186-D3EEADF41A6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2CF7-F7D9-4493-869C-45B6BF0CBD8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9930-271E-4C77-B33F-46D56382D934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МАСТЕР АКАДЕМСКЕ СТУДИЈЕ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Мастер менаџмент у систему здравствене заштите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ТИКА И СИСТЕМ ЗДРАВСТВЕНЕ ЗАШТИТЕ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аставна јединица бр. 6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АЊЕ СИСТЕМА ЗДРАВСТВЕНЕ ЗАШТИТ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РЕПУБЛИЦИ СРБИЈ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25892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 ЗДРАВСТВЕНЕ ЗАШТИТЕ РЕПУБЛИКЕ СРБ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611280" y="-6480"/>
            <a:ext cx="78562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истем здравствене заштите Републике Србиј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ално посматрано, припада Бизмарковом моделу обавезног здравственог осигурања, док је суштински на прелазу између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обавезног здравственог осигур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националне здравствене служб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тз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,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национално здравствено осигур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”- без довољно аутономије у одлучивању Републичког фонда и уз значајан интервенционизам државе)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истем здравствене заштите Републике Срб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Републици Србији присутан је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овити систем финансир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система здравствене заштит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га карактер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 претежн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јаван извор финансир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р се финансирање најв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м делом остварује из средстава доприноса и из буџета Републик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инансирање здравствене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ите у Републици Србији у основи је засновано н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Бизмарковом модел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о се више од 8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редстава за остваривање права из обавезног здравственог осигурања обезб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је из средстава доприноса за обавезно здравствено осигур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и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м о здравственој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и пред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но је и финансирање здравствене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е из буџета Републике за лица која нису обух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на обавезним здравственим осигурањ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која су изл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на пов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ом ризику оболев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сигурана лиц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еглице и интерно расељена лица са територије Аутономне покрајине Косово и Метох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аоци социјалне пом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 друг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је и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карактерист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вериџевог модел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асходи за здравствену з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титу и здравствено осигурањ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у Републици Србиј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упни расходи за здравствену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ту и здравствено осигур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епублици Србиј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гу се поделити 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ја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прива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Јавни расх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Јавни расх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редстављају расходе из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јавних прихода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бавезно здравствено осигур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уџет Републик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уџет аутономне покрајине и буџет локалне самоупра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ни расходи су и инвестиције у систем здравствене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те из д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них фондо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Приватни расх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Приватни расх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 здравствену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ту су из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приватних изв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о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чна плаћања корисника здравствене заштите (лично учешће осигураних лица и трошковима здравствене заштите – партиципација, плаћање пуне цене здравствених услуга које се не могу пружити на терет средстава здравственог осигурања и плаћање пуне цене здравствених услуга даваоцима из приватног сектор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бровољно здравствено осигур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приватних трошкова (95,6%) чине плаћања из ,,џепа“за здравствене услу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1020600"/>
            <a:ext cx="78868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300" spc="-1" strike="noStrike">
                <a:solidFill>
                  <a:srgbClr val="000000"/>
                </a:solidFill>
                <a:latin typeface="Calibri Light"/>
              </a:rPr>
              <a:t>Национални здравствени систем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66840" y="1755720"/>
            <a:ext cx="85485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ље има изузетно важан утицај на способност људи да живе свакодневни живот, на допринос друштвеном и економском развоју, односно општем успеху земље“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з наведених разлога се здрављу приступа као великом националном ресурсу који завређује континуирани стратешки развој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аво на здравље и здравствено осигурање- једно од основних људских права загарантованих Уставом Републике Срб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ви би требало да уживају у најбољем здрављ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7000" y="1034640"/>
            <a:ext cx="788652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06080" y="1717200"/>
            <a:ext cx="8567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сновне демографске карактеристике Становништва Србије: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тенденција смањења броја становник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старење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топа наталитета: 9,3 на 1000 становник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топа смртности : 14,2 на 1000 становник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Негативна стопа прираштаја 4,9 на 1000 становника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Удео популације старије од 65. година у Србији у укупној популацији износи 17,4% изнад просека је у Европском региону (15,3%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оценат младих узраста до 14 година је 15,3%  и испод европског просека је (16,8%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972720"/>
            <a:ext cx="78868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34880" y="1784160"/>
            <a:ext cx="850896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осечан животни век у Србији износи 74,6 године што је краће од просека живота у земљама ЕУ (80,2 године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Републичком заводу за статистику у Србији се очекује тренд смањења становништва до 2022. годин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бази Светске банке а према вредности националног дохотка по глави сановника Србија је 2012. године била на 100. месту од 223 земље са 11,43$ усклађених према паритету куповне моћ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класификацији Светске банке, Србија припада земљама са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вишим средњим националним дохотком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 глави становника и сврстава се у групу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земаља у развоју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овом навођењу, од бивших Југословенских република, од Србије је лошије позиционирана само Босна и Херцеговин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1080" y="1176120"/>
            <a:ext cx="78865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79000" y="1852200"/>
            <a:ext cx="836604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На здравствено стање становништва утицала су поред старења и негативна социо-економска кретања у последњих 10-20 годин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одећи узроци оболевања, инвалидности и превременог умирања ( пре 65. године) су </a:t>
            </a: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хроничне незаразне болести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које се у великој мери могу превенирати адекватним мерама здравствене заштит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 2012. години преко 2/3 свих узрока смрти су чиниле болести срца, крвних судова и малигних тумор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53,7 % смртни исход услед болести система крвото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20,8% је преминуло од последица малигног тумо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2,9% од компликација дијабете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2,6% од опструктивних болести плућ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3,2% од последица тровањ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985680"/>
            <a:ext cx="78868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6760" y="1746360"/>
            <a:ext cx="85201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Водећи узроци обољевања и умирања становништва указују на квалитет рада здравствене службе али и на однос појединца и друштвене заједнице према здрављ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ствени систем према СЗО:  „скуп свих организација, институција и ресурса усмерених ка предузимању акција чија је основна сврха побољшање, очување или обнављање здравља људи.“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То није само хијерархија установа које обезбеђују здравствену заштиту већ много комплекснију унију поступака.. Нпр..кампање за превенцију и контролу заразних болести, организацију здравственог осигурања, програм промене понашања са негативним утицајем на здравље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 социјалне сигурности у Србиј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 социјалног осигурања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ензијско-инвалидско осигурањ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здравствено осигур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игурање за случај незапосле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систем друштвене бриге о де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 пород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систем друштвене заштите бораца, војних инвалида и цивилних инвалида р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систем социјалне заштите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856800"/>
            <a:ext cx="788688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06080" y="1571400"/>
            <a:ext cx="848052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Добар здравствени систем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пружа квалитетне услуге свим људима, када и где им је потребн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пус права на здравствену заштиту варира од земље до земље али у свим случајевима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захтева стабилан извор финансирањ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ред извора финансирања, есенцијални елементи здравственог система су и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добро обучени и адекватно плаћени кадар, поуздане информације на основу којих ће се креирати и доносити одређена здравствена политик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декватна инфраструктура, опрема, лекови, савремена технологија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50800" y="995040"/>
            <a:ext cx="7886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90520" y="1774800"/>
            <a:ext cx="84996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ствена заштита- свеобухватна и организована делатност друштва са основним циљем да се оствари највиши могући ниво очувања здравља људи и грађан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Мере и активносту здравствене заштите морају бити квалитетне, безбедне, ефикасне, ефективне, засноване на научним доказима и у складу са начелима професионалне етик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На сонову поделе система здравствене заштите (ЗЗ) који је креирала </a:t>
            </a:r>
            <a:r>
              <a:rPr b="0" lang="sr-Latn-RS" sz="2100" spc="-1" strike="noStrike">
                <a:solidFill>
                  <a:srgbClr val="000000"/>
                </a:solidFill>
                <a:latin typeface="Calibri"/>
              </a:rPr>
              <a:t>OECD ( Organisation forEconomic Cooperation and Development)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- Организација за економску сарадњу и развој, систем ЗЗ у Србији припада Бизмарковом моделу – обавезно здравствено осигурање ( допринос је основни извор финансирања), велики обухват  становништва здравственом заштитом и доминантно државно власништво над инфраструктуром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944280"/>
            <a:ext cx="78868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79000" y="1649160"/>
            <a:ext cx="86360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иватни здравствени сектор- код нас још увек неадекватно развијен. Стихијски се развијао без адекватне контроле или подршке држав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Капацитети здравственог систем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купан број самосталних здравствених установа према Уредби о плану мреже здравствених установа у 2012. години у Србији је износио 35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 државном сектору у 2012. години било је запослено укупно 112587 радника; доктора медицине 18,6%; доктора стоматологије 1,9%; дипломираних фармацеута 1,9%, медицинских техничара 35,3% и немедицинских радника 24,5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адровска обезбеђеност, број лекара и медицинских техничара на 100000 становника , приближио се просечним вредностима за земље Европског региона (334 лекара и 766 техничара на 100000 становни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10920" y="1082520"/>
            <a:ext cx="788652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75760" y="1752120"/>
            <a:ext cx="867276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Добра обезбеђеност становништва лекарским кадром нарушена је неповољном дистрибуцијом, тј високом концентрацијом кадра у урбаној средини а дефицитом кадар у руралним подручјим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а превазилажење овог проблема неопходан је одговарајући план са вишеслојним и комплексним мерама и активностим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90400" y="963360"/>
            <a:ext cx="78868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47400" y="1726920"/>
            <a:ext cx="8577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Финансирање здравствене заштит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ко 90% средстава за оставривање права из обавезног здравственог осигурања се обезбеђујеиз средстава допирноса за обавезно здравствено осигурањ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аконом о ЗЗ је предвиђено и финансирање из буџета Републике Србије за лица која нису обухваћена обавезним здравственим осигурањем а која су изложена повећаном ризику обољевања (неосигурана лица, избеглице, примаоци социјалне помоћ и други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рбија има мешовити модел финансирања кога карактерише искључиво јаван извор финансирањ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21760" y="1852560"/>
            <a:ext cx="86742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бавезни здравственим осигурањем осигураним лицима обезбеђује се право на здравствену заштиту и право на новчане надокнаде у складу са Законом о здравственом осигурањ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аво на здравствено осигурање грађани остварују посредством Републичког фонда за здравствено осигурање (РФЗО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ред обавезног Закон уређује и добровољно здравствено осигурањ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ствена заштита у Републици Србији, финансира се и средствима из донације као и директним плаћањем од стране корисника здравствене заштите (партиципације и плаћање пуне цене услуга које се не обезбеђују из средстава обавезног здравственог осигур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98244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70000" y="1697040"/>
            <a:ext cx="866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чување и унапређење здравља становништва и одрживост система здравствене заштите је основни циљ здравствене политике, чији је носилац Министарство здрављ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и систем мора осигура вертикалну повезаност ( примарног, секундарног и терцијарног нивоа) и хоризонталну повезаност у систему и у односу на локалну заједницу, да ради на сталном унапређењу квалитета здравствене заштите, развоју здравствених кадрова, информатичке подршке, одрживости финансирања, партнерству приватног и јавног сектора,постаљање корисника у центар система здравствене зашти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стема здравствене заштит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CD 1987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 националне здравствене с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вериџов м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 социјалног осигур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марков м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 приватног осигур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,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,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ере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исни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и здравствене заштите углавном међусобно се разликују према начину прикупљања средстава за здравствену заштиту и остваривању осталих права из здравственог осигурања, односно према изворима финансир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вериџ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) потпун обухват становништва здравственом заштитом и здравственим осигурањ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финансирање из буџета, односно путем поре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) претежно државно власништво или само контрола над зградама и опремом у здрав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вериџ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 националне здравствене службе прва увела је Велика Британија, у јулу 1948. го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јам Бевериџ,  је у свом извештају из 1942. године образложио основе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итанска национална здравствена служб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tional Health Sevice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д Велике Британије и Ирске, као пример могу се навести: Шведска, Норвешка, Финска, Данска, Исланд, Канада, Аустралија, Италија, Шпанија, Португалија   и друге зем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змарк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 проценат становништва обухваћеног обавезним здравственим осигурањем (преко 90%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нансирање путем доприноса запослених и њихових послодаваца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жавно и/или приватно власништво над зградама и опремом у здрав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змарк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 примери земаља са социјалним осигурањем могу се навести: Немачка, Аустрија, Француска, Швајцарска, Белгија, Холандија, Луксембург и друге земље. Такође, земље у транзицији претежно се опредељују за систем социјалног осигур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стем приватног осигур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асходно приватно власништво над зградама и опремом у здравств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ватно здравствено осигурањ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 проценат неосигураног становниш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ичан представник земаља са системом приватног осигурања су САД. У овој земљи, у којој расходи за здравствену заштиту чине око 18% бруто доомаћег производа, здравствено је неосигурано око 48 милиона становника или 15,4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машков мод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ичан Бевериџовом моделу, али  искључује приватну прак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ј модел био је примењиван у Совјетском Савезу и другим источноевропским земљама, међутим у Европи више не постој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машков модел данас је присутан у Азији (Кина, Северна Кореја, Монголија, Вијетнам) и на Ку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08:49:03Z</dcterms:created>
  <dc:creator>No name</dc:creator>
  <dc:description/>
  <dc:language>en-US</dc:language>
  <cp:lastModifiedBy>User</cp:lastModifiedBy>
  <dcterms:modified xsi:type="dcterms:W3CDTF">2019-02-18T18:54:53Z</dcterms:modified>
  <cp:revision>21</cp:revision>
  <dc:subject/>
  <dc:title>ФИНАНСИРАЊЕ СИСТЕМА ЗДРАВСТВЕНЕ ЗАШТИТЕ У РЕПУБЛИЦИ СРБИЈИ</dc:title>
</cp:coreProperties>
</file>